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C0C9B-E944-4D19-93BF-F908441F8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4BF57-8F84-40CB-A4B5-E824B848C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B9FAB-4C8D-4F04-8571-D8A6E6A87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85FD0-A967-4833-A634-B3E7A8495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67510-9FB5-4BB7-A2CD-2CA69166D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18FFD-C0A8-44E9-9EC0-393DD8CEF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CE1E1-891F-4CA4-B1CF-C17FCE556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EFA55-D7E6-45C6-AA14-B21E2C7A3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9B94E-7FAE-4B0C-B7EE-001488A49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90AC9-416E-43DD-87D8-81176410C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BFFBB-5EF0-40ED-A6CA-C48B9B43D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581F5-BC9C-4BAE-B886-44029B841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7D70-EC2D-4BA9-B455-408FFFD22D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stretch/>
        </p:blipFill>
        <p:spPr>
          <a:xfrm>
            <a:off x="5148360" y="148428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LiviaT</cp:lastModifiedBy>
  <dcterms:modified xsi:type="dcterms:W3CDTF">2012-03-14T12:51:17Z</dcterms:modified>
  <cp:revision>42</cp:revision>
  <dc:subject/>
  <dc:title>SALARIUL</dc:title>
</cp:coreProperties>
</file>